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jpeg" ContentType="image/jpeg"/>
  <Override PartName="/ppt/media/image3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55.wmf" ContentType="image/x-wmf"/>
  <Override PartName="/ppt/media/image17.png" ContentType="image/png"/>
  <Override PartName="/ppt/media/image32.jpeg" ContentType="image/jpeg"/>
  <Override PartName="/ppt/media/image57.wmf" ContentType="image/x-wmf"/>
  <Override PartName="/ppt/media/image16.jpeg" ContentType="image/jpeg"/>
  <Override PartName="/ppt/media/image14.png" ContentType="image/png"/>
  <Override PartName="/ppt/media/image10.jpeg" ContentType="image/jpeg"/>
  <Override PartName="/ppt/media/image54.wmf" ContentType="image/x-wmf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5.png" ContentType="image/png"/>
  <Override PartName="/ppt/media/image42.jpeg" ContentType="image/jpeg"/>
  <Override PartName="/ppt/media/image37.png" ContentType="image/png"/>
  <Override PartName="/ppt/media/image43.png" ContentType="image/png"/>
  <Override PartName="/ppt/media/image44.png" ContentType="image/png"/>
  <Override PartName="/ppt/media/image34.png" ContentType="image/png"/>
  <Override PartName="/ppt/media/image46.png" ContentType="image/png"/>
  <Override PartName="/ppt/media/image35.png" ContentType="image/png"/>
  <Override PartName="/ppt/media/image26.jpeg" ContentType="image/jpeg"/>
  <Override PartName="/ppt/media/image47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6.wmf" ContentType="image/x-wmf"/>
  <Override PartName="/ppt/media/image33.png" ContentType="image/png"/>
  <Override PartName="/ppt/media/image31.jpeg" ContentType="image/jpeg"/>
  <Override PartName="/ppt/media/image13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50.png" ContentType="image/png"/>
  <Override PartName="/ppt/media/image48.wmf" ContentType="image/x-wmf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6120-B9D7-4DB7-9318-94C4FB89B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2A34-7945-4776-9559-3502B150D2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2F95-8082-4A61-9179-6D64AE2F8C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F1C-B64B-4810-AE71-4DAD3F485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988E-6242-48BF-B3AA-E01C6D812C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67AC-20E6-43FB-BB98-FFCB2DE991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рукции Использование шабл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презентацию, нажмите в строке состояния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 слай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т календарь отсчитывает первые 25 дней декабря. Каждый день нажимайт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омером соответствующего дня месяца. При нажатии кнопки откроется карт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рукции по настройке шаблона рождественского календаря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и форматирование ф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добавить фон с домом, щелкните фон слайда правой кнопкой мыши и выберите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т ф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вой области диалогового окна "Формат фона"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лив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в правой области выберите вариан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унок или текс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кажите рисунок, который будет использоваться в качестве фона, и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ч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исунки можно бесплатно загрузить с веб-узла Microsoft Office Online (http://office.microsoft.co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менить изображения (эльфов и других персонажей в окнах и на крыше) на собственные, выполните указанные ниж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ткрой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сть выд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ч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я проще выбирать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и вид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непосредственно на слай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и вид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щелкните отображаемый элемент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reveal_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ч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ждым отображаемым элементом связано изображение. Каждому отображаемому элементу присвоен номер, соответствующий кнопке, скрывающей рисунок. Например, элемент reveal_9 (рисунок) находится под кнопкой с номером 9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отображаемый элемент, связанный с рисунком, который требуется заменить, найдите на слайде необходимый рисунок, щелкните его правой кнопкой мыши и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т рису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вой области диалогового ок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т рисун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лив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в правой области выберите вариан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унок или текс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кажите рисунок, который необходимо заменить в календаре, и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вести кнопку и открыть на слайде фигуры и изображения, выполните указанные ниж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"скрывающую" фигуру (например, прямоугольник, чтобы закрыть окно, или звезду на небе), а затем перетащите эту фигуру на слай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эти фигуры рисунками или изображениями из коллекции (процедуры см. ниж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важды щелкните [объект], чтобы изменить текст и ввести новое имя ("объект_1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фигуру для "кнопки" и перетащите ее на слайд. (Например, перетащите прямоугольник поверх первого окна, и он станет кнопкой №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"кнопку" правой кнопкой мыши и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ить тек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ведите текст (номер) этой "кноп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важды щелкните [объект], чтобы изменить текст и ввести новое имя ("кнопка_1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е фигуру "кнопка" на слайд таким образом, чтобы она полностью закрывала "отображаемую" фиг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оспроизвести на слайде анимационные эффекты, выполните указанные ниж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 ани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явится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и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дать для "кнопки" эффект (в данном случа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цвет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выделите на слайде кнопку, нажмите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 ани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бавить эфф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ительные эффек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б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ерите эффе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цвет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щелкните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 ани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у, расположенную справа от добавленного эффекта (эффект выцветания), и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цвет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ите указанные ниж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двойные стрелки, расположенные справа от разде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ключат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ть выполнение эффекта при щелч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ис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ть выполнение эффекта при щелч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фигуру "кноп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айде выделите фигуру с картинкой ("отображаемую" фигуру), расположенную под фигурой "кнопка", и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и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бав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ительные эффек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б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эффек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цве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ройка ани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добавленный эффект (эффект выцветания), а затем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ить: выцвет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ис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у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ыдущ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эти же действия для оставшихся 24 "кнопок" и соответствующих им "отображаемых" фигур на слай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327-18BF-44E1-80CA-BF8F4D167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0241-83F2-4AD3-8F22-A4EF93CDF3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C66-028A-49FD-8E03-798D3FF9D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7C40-4247-4470-BED8-991290B78B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8F0B-2A91-428B-8A8A-74ABCC284A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49E-0C22-49C8-B517-39B07805D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6DC-A766-4E28-B7F8-E60F4FD92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17D-02D5-4849-8FB5-673AB0F8A0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D60-6556-44AB-B296-A6CE40F5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084-86FB-4940-819E-8A70F91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D9CC-CBDD-41CD-AFA5-6259611A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853E-64D0-4B47-8F0C-B0B474AE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5124-9744-4E75-B0BD-838B0BFF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0289-C68B-48EA-B158-9A2E80A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E9503-AE1E-4B4F-8871-5FEDF83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A9B2-8E47-4ED3-9ECF-681DFA6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3B14C-41FF-4597-9B82-F807A099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C4521-2C87-4F32-A553-2B18BAD5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460A-4795-461C-8A12-13185E0A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EC578-2467-4C82-9D52-67F912B0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293-8C01-4A9A-BF11-99B1DD74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E05D2-D152-4D77-9960-37A7540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EF7FF-16A5-4058-AFB5-D047282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5D254-0F35-40B9-8DEC-81EB0998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5FAF-D68C-4120-AD11-E14C9F8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75986-3597-4FD6-BE54-3502102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12AFF-615C-41CE-BA84-0B53FF2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035C-6149-4893-A9A0-F652C94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AE682-A505-4E9F-A339-2CE1CF0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2F385-6641-4FCB-989E-5096BDB6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D8AE8-8FE7-4954-8249-F344A04F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B8A-7C87-4894-B833-1D14547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36F10-A758-4A0D-AA95-76E04AC7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6063E-BF70-425C-B1FB-D7C56AE0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1DBE8-DB8A-4CDE-BDC5-B87C315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C4665-B11E-449D-8BDB-3462B28F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5064B-2496-4DCF-ACA3-C717A956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77EE1-A336-451A-B362-A769B73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02985-BA25-4E79-B3C8-EFF9EAA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905A-0905-491C-8363-DF7DE2D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17F9-30EE-4D68-9689-E73EBA6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613B9-1FAA-4827-BE37-D0EA556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B46-3FA9-4255-AA02-84E85C5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39F4F-252D-45F1-9B38-2CA54AA5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1296A-E532-4902-A6CB-CB0D086C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2FEC-2370-42FD-A3B5-84AD23A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BF68A-5BC4-4D4E-9D7C-280BB64A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71B87-EBE5-408D-9663-8330D12A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22914-851C-446B-A3F5-FD1EFFC3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3B74C-B1AE-4593-B5E0-69F74033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EFED-DFDE-44E6-88BD-DB17BF2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EE059-262E-47D5-9C24-71EF57E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C6D57-B750-4C06-8CAC-6436031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ED1D-7E4E-4802-AFBA-F4B970B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B4C0-8767-4B98-9E75-E437901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3216-3B66-46A0-BA94-B6B5F54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F6813-D5B0-4DD3-9DF2-803E76C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D677E-C755-4350-AF70-56F4FA1B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F14DB-FD64-4D45-BFA6-2C3BD4F0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5B0D7-0843-4FE9-A554-07AC9666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94AE9-5A16-4343-A692-C90B3DB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25BA6-4992-4172-B65A-E05FDD8F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BEBFF-1B90-4324-BC61-37CA25E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96AC2-56E0-4A7A-8CF0-9A4832D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A0B-EFB6-4190-9AD2-99C42A3A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13B4C-E346-4692-99BB-366E5900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22CE-96CF-43A9-BAB0-7D8DAAD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E75B5-2B23-4AFE-8238-0C3AB22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C9A52-EE36-465C-BC19-72FF7E3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9DFB2-3B85-4C74-A63C-4454063B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AB95C-EEB2-4661-8655-E9557F81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8B070-808E-43A3-842C-95395D13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9B2A3-A2E3-44AA-8271-C2EA6B4B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D092F-7EAD-4325-9C23-6EC08221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147C8-4BAE-40EB-A7F1-432501D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5F0-1F21-478D-9C3D-A708AB7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AFC54-9176-4B63-B6E8-C1D5EB58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A2D3F-C9E2-4087-ACCB-DEA68F6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E3A3E-9810-4977-8A7D-F89FEEE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F9F66-3B8C-4BAF-88E3-2B6BAD4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1989C-8683-4A4D-86C2-9CF32B6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1421-6F93-409A-AEC2-3A4CA9F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EDFA0-0965-45FF-A383-D60AB07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4A5E5-0BE9-46B6-8F76-C8042E67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6DE07-DF53-404C-BD8F-BAFACC3A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F5128-8ACD-4D96-8C43-D277E1CE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4713-9AD3-4803-99BA-BCFB6E83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4701C-AADC-41A7-B99C-D9D3DE8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F4E84-6E14-4D77-AA27-66981EA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3BCCC-5E80-47ED-8B4C-021E05DD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2B9E4-4C52-49CE-8353-87DF149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A6D37-A673-4221-81EF-0D167F0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E359E-1B6B-4D32-AA97-B38BF00D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406FA-D31D-4894-AE22-8FE11F6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C0E96-29D2-456F-BFCF-C0A4C3B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1C937-E2A5-4187-B84D-79CCEF6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42F11-6EB1-4A9E-A01F-F6F8096F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4F5B-2FFE-410C-9530-75CF66C8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08CCC-D926-4D1B-97F5-A201A72C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D65-898F-40BA-9E51-F2CB18D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8EB-3EB2-4947-97F9-F161B72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07D-BBA8-4023-95E6-E2046A0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BE8-F8A4-463F-9961-9B84D3E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F454-4905-488E-B5EE-36CAA1B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79E-69C2-424B-BE10-3026FDD0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488C-B9C8-40CF-A130-A30E14BB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D44-E297-48FA-95A7-9B6E49B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3644-6B47-4B7A-B152-49D526C8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8883-08AE-4A03-8F48-FBE99EB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C777-C3E0-4432-B820-E87A6F3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296-B933-4B58-9F58-D347DDD4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32C4-C770-4858-AD24-C067CAD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C712-F509-481E-B7D2-35A133A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BF6B-2FEE-46EE-87AE-F4145EC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D145-EF27-41BC-8B96-E55D338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409B-5CF4-4814-A0A3-AEF7074A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140A-BD79-4B3B-902D-2084D4A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69CA-C4A1-4DA6-AE21-E54A0E1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38E2-17BA-4BF6-9472-F9D8B898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1C15-5933-41A5-94D0-DA568691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FDBC-D57C-4BAF-8944-93F188AA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D5D-60FA-42DA-8B54-AC70D8D1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6A98-97B9-4780-985F-610F748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C808-ACEA-4C4B-A468-516AB79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4376-8ABF-4637-A12B-DFF2096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6BF7-60CD-4660-A6B1-D89FF6D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BD6D-D0B5-4839-BFFC-F8EE5308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8BAC-9A51-486F-92A3-C83D37D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FF75-2C57-4194-9FA3-0C0806F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8300-7853-483F-A38C-DC3E736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4BAE-F278-4257-BCA1-08210D5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C229-C84E-49C6-B990-4DD34EA1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339-CD49-4E01-8BA3-20F93DB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2161-B3A4-42EB-9CC6-10DA3113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C9191-5903-4A98-8B20-F77BA589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F0FE-2B1D-4B8C-8339-CCA5084E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37C4-3DAE-4686-BD2A-3CEA38F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EDA6-E43E-449B-9E1A-B59F165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BC6B-B7BB-4549-8898-F9A1593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3027-A6C3-4278-9B4E-4A56459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F3AB-2CCF-4FFE-9EC5-6B8C0D9D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D953-3CBC-47CF-AF6A-47D8F57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A5A5-712B-4E99-BCD7-7F1F35D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AAD-2830-4DF5-9CBA-AFE17B4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3A4D-1D5F-4567-B8D2-DDEB7EE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6C9B-B9D8-49E0-9FFE-7B945D3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CAE4-51A6-486A-AAEC-B5710351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B4DE-F3B9-4980-AEC2-99A14F5E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24D1-FCF5-45A4-A47A-8FA0CE88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F1CC8-4062-4D56-A9C9-8FC0904E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768E-FDAC-46D7-97FF-6B03BAA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54D5-80E5-44C8-8019-362DB9B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68EE-AC2F-4AAF-8BC2-1BF64935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D05A-73F5-44AE-99FD-E5C4422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F7C-5908-409A-B1C8-5F3DF4F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A0F3-50BC-44DE-8213-BE98BF7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73F2-9042-4340-9856-34AF965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EA58-3B21-4451-96BD-F7A65B7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FD92-1F7E-4911-9596-067A0E20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4D8C-90E2-4428-BCE5-C2129C00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B84B-73B3-49BE-B8E8-7330DA9F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BFE3-8372-4696-B9E9-B66A6DB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8D30-77B0-4937-9948-66499007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5BED-D7D9-4349-A390-E2965AB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4E26-3974-4A79-97B0-F320B3C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AE4-C375-4FD2-BA66-DFEBF7A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8AF33-1CE0-4902-ABF1-2DA2DBB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F3C09-DE97-4055-9599-39580CA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6E32-070A-482F-BD3F-7B18FFC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55D2-7669-4641-8BD3-8BD52B1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FF8EA-3347-45DF-8BB2-1130FF7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B78E0-741B-4EA8-A7B9-233372D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63AE-8B27-48FB-9A4F-76036775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CE0F-06CE-4F67-BBB6-6E634125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F9CB-98E7-4401-BC2A-1B34D8A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32B37-6E8A-46E7-83AB-650DA25B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A76-CE3B-4244-8F00-3C5736513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656-FB0D-4683-B148-B871FF86D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220-4788-445F-B81A-970ADD41D8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9737-49B2-4869-9D09-DB4851908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0FF-894B-40DC-B703-239E631BC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22A5-E869-4B1F-93F0-418BC9C5FE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A3F-BF25-468E-917E-3E470B409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4160" y="712440"/>
            <a:ext cx="78343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dec9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e7dec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5880" y="1455840"/>
            <a:ext cx="78771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6479-EB70-41F8-BF1D-66A86F350B7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CE2-BCFD-4D12-9E64-50186F184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707-A4FE-4DE5-B763-84FC695BAF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403-70FE-442A-A326-CFBAD84DA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3FB-E399-4BDC-A63B-149E900AE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BFC-C9DD-4565-AE01-01BDD5BEA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4C7-CC2F-44A6-8DBE-512DF598C1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jpe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wmf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wmf"/><Relationship Id="rId24" Type="http://schemas.openxmlformats.org/officeDocument/2006/relationships/image" Target="../media/image55.wmf"/><Relationship Id="rId25" Type="http://schemas.openxmlformats.org/officeDocument/2006/relationships/image" Target="../media/image56.wmf"/><Relationship Id="rId26" Type="http://schemas.openxmlformats.org/officeDocument/2006/relationships/image" Target="../media/image57.wmf"/><Relationship Id="rId27" Type="http://schemas.openxmlformats.org/officeDocument/2006/relationships/image" Target="../media/image58.png"/><Relationship Id="rId28" Type="http://schemas.openxmlformats.org/officeDocument/2006/relationships/slideLayout" Target="../slideLayouts/slideLayout13.xml"/><Relationship Id="rId2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8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феврал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новый год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Garamond"/>
              </a:rPr>
              <a:t>Увлин Увгун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монго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иятел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8" name="Содержимое 5" descr="сканирование0007.jpg"/>
          <p:cNvPicPr/>
          <p:nvPr/>
        </p:nvPicPr>
        <p:blipFill>
          <a:blip r:embed="rId2"/>
          <a:stretch/>
        </p:blipFill>
        <p:spPr>
          <a:xfrm>
            <a:off x="179280" y="333360"/>
            <a:ext cx="4864320" cy="6264360"/>
          </a:xfrm>
          <a:prstGeom prst="rect">
            <a:avLst/>
          </a:prstGeom>
          <a:ln w="0">
            <a:noFill/>
          </a:ln>
        </p:spPr>
      </p:pic>
      <p:pic>
        <p:nvPicPr>
          <p:cNvPr id="689" name="Прямоугольник 9" descr=""/>
          <p:cNvPicPr/>
          <p:nvPr/>
        </p:nvPicPr>
        <p:blipFill>
          <a:blip r:embed="rId3"/>
          <a:stretch/>
        </p:blipFill>
        <p:spPr>
          <a:xfrm>
            <a:off x="5022720" y="3786120"/>
            <a:ext cx="3962520" cy="196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183280" y="259920"/>
            <a:ext cx="3960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Баббе Натале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итальян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ассистен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1" name="Прямоугольник 9" descr=""/>
          <p:cNvPicPr/>
          <p:nvPr/>
        </p:nvPicPr>
        <p:blipFill>
          <a:blip r:embed="rId2"/>
          <a:stretch/>
        </p:blipFill>
        <p:spPr>
          <a:xfrm>
            <a:off x="5041800" y="2712960"/>
            <a:ext cx="4314960" cy="3164040"/>
          </a:xfrm>
          <a:prstGeom prst="rect">
            <a:avLst/>
          </a:prstGeom>
          <a:ln w="0">
            <a:noFill/>
          </a:ln>
        </p:spPr>
      </p:pic>
      <p:pic>
        <p:nvPicPr>
          <p:cNvPr id="692" name="Содержимое 6" descr="сканирование0008.jpg"/>
          <p:cNvPicPr/>
          <p:nvPr/>
        </p:nvPicPr>
        <p:blipFill>
          <a:blip r:embed="rId3"/>
          <a:stretch/>
        </p:blipFill>
        <p:spPr>
          <a:xfrm>
            <a:off x="179280" y="333360"/>
            <a:ext cx="4915080" cy="62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932000" y="260280"/>
            <a:ext cx="40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Юль Томтен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швед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аленький заместител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4" name="Прямоугольник 9" descr=""/>
          <p:cNvPicPr/>
          <p:nvPr/>
        </p:nvPicPr>
        <p:blipFill>
          <a:blip r:embed="rId2"/>
          <a:stretch/>
        </p:blipFill>
        <p:spPr>
          <a:xfrm>
            <a:off x="4780080" y="3352680"/>
            <a:ext cx="4181400" cy="2560680"/>
          </a:xfrm>
          <a:prstGeom prst="rect">
            <a:avLst/>
          </a:prstGeom>
          <a:ln w="0">
            <a:noFill/>
          </a:ln>
        </p:spPr>
      </p:pic>
      <p:pic>
        <p:nvPicPr>
          <p:cNvPr id="695" name="Содержимое 5" descr="сканирование0009.jpg"/>
          <p:cNvPicPr/>
          <p:nvPr/>
        </p:nvPicPr>
        <p:blipFill>
          <a:blip r:embed="rId3"/>
          <a:stretch/>
        </p:blipFill>
        <p:spPr>
          <a:xfrm>
            <a:off x="179280" y="260280"/>
            <a:ext cx="4660920" cy="632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111280" y="188640"/>
            <a:ext cx="4032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Garamond"/>
              </a:rPr>
              <a:t>Санта Клаус</a:t>
            </a:r>
            <a:br>
              <a:rPr sz="5400"/>
            </a:br>
            <a:r>
              <a:rPr b="1" lang="en-US" sz="3200" spc="-1" strike="noStrike">
                <a:solidFill>
                  <a:srgbClr val="7030a0"/>
                </a:solidFill>
                <a:latin typeface="Garamond"/>
              </a:rPr>
              <a:t>американск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конкурен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7" name="Содержимое 6" descr="сканирование0010.jpg"/>
          <p:cNvPicPr/>
          <p:nvPr/>
        </p:nvPicPr>
        <p:blipFill>
          <a:blip r:embed="rId2"/>
          <a:stretch/>
        </p:blipFill>
        <p:spPr>
          <a:xfrm>
            <a:off x="179280" y="189000"/>
            <a:ext cx="5148360" cy="6381720"/>
          </a:xfrm>
          <a:prstGeom prst="rect">
            <a:avLst/>
          </a:prstGeom>
          <a:ln w="0">
            <a:noFill/>
          </a:ln>
        </p:spPr>
      </p:pic>
      <p:pic>
        <p:nvPicPr>
          <p:cNvPr id="698" name="Прямоугольник 9" descr=""/>
          <p:cNvPicPr/>
          <p:nvPr/>
        </p:nvPicPr>
        <p:blipFill>
          <a:blip r:embed="rId3"/>
          <a:stretch/>
        </p:blipFill>
        <p:spPr>
          <a:xfrm>
            <a:off x="4950000" y="3548160"/>
            <a:ext cx="3985920" cy="218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00" name="Рисунок 3" descr="0_53a0f_68a727dd_XL.jpeg"/>
          <p:cNvPicPr/>
          <p:nvPr/>
        </p:nvPicPr>
        <p:blipFill>
          <a:blip r:embed="rId2"/>
          <a:stretch/>
        </p:blipFill>
        <p:spPr>
          <a:xfrm>
            <a:off x="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Текст 15"/>
          <p:cNvSpPr/>
          <p:nvPr/>
        </p:nvSpPr>
        <p:spPr>
          <a:xfrm>
            <a:off x="4716360" y="404640"/>
            <a:ext cx="442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Вот сколько у меня помощник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Все детишки разных стран ждут нас в Новый г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5003280" y="4365720"/>
            <a:ext cx="3961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 для чего вы нас ждёте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Хотите получить подарок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8153280"/>
            <a:ext cx="78343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dec9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e7dec9"/>
              </a:solidFill>
              <a:latin typeface="Arial Black"/>
            </a:endParaRPr>
          </a:p>
        </p:txBody>
      </p:sp>
      <p:grpSp>
        <p:nvGrpSpPr>
          <p:cNvPr id="704" name="reveal_22"/>
          <p:cNvGrpSpPr/>
          <p:nvPr/>
        </p:nvGrpSpPr>
        <p:grpSpPr>
          <a:xfrm>
            <a:off x="1139760" y="1633680"/>
            <a:ext cx="974880" cy="609480"/>
            <a:chOff x="1139760" y="1633680"/>
            <a:chExt cx="974880" cy="609480"/>
          </a:xfrm>
        </p:grpSpPr>
        <p:pic>
          <p:nvPicPr>
            <p:cNvPr id="705" name="reveal_22" descr=""/>
            <p:cNvPicPr/>
            <p:nvPr/>
          </p:nvPicPr>
          <p:blipFill>
            <a:blip r:embed="rId2"/>
            <a:stretch/>
          </p:blipFill>
          <p:spPr>
            <a:xfrm>
              <a:off x="1139760" y="1633680"/>
              <a:ext cx="974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1154160" y="1643040"/>
              <a:ext cx="9460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reveal_2"/>
          <p:cNvGrpSpPr/>
          <p:nvPr/>
        </p:nvGrpSpPr>
        <p:grpSpPr>
          <a:xfrm>
            <a:off x="4943520" y="3316320"/>
            <a:ext cx="914400" cy="536400"/>
            <a:chOff x="4943520" y="3316320"/>
            <a:chExt cx="914400" cy="536400"/>
          </a:xfrm>
        </p:grpSpPr>
        <p:pic>
          <p:nvPicPr>
            <p:cNvPr id="708" name="reveal_2" descr=""/>
            <p:cNvPicPr/>
            <p:nvPr/>
          </p:nvPicPr>
          <p:blipFill>
            <a:blip r:embed="rId3"/>
            <a:stretch/>
          </p:blipFill>
          <p:spPr>
            <a:xfrm>
              <a:off x="4943520" y="3316320"/>
              <a:ext cx="9144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4952880" y="3325680"/>
              <a:ext cx="89244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reaveal_14"/>
          <p:cNvGrpSpPr/>
          <p:nvPr/>
        </p:nvGrpSpPr>
        <p:grpSpPr>
          <a:xfrm>
            <a:off x="6772320" y="3365640"/>
            <a:ext cx="981000" cy="633240"/>
            <a:chOff x="6772320" y="3365640"/>
            <a:chExt cx="981000" cy="633240"/>
          </a:xfrm>
        </p:grpSpPr>
        <p:pic>
          <p:nvPicPr>
            <p:cNvPr id="711" name="reaveal_14" descr=""/>
            <p:cNvPicPr/>
            <p:nvPr/>
          </p:nvPicPr>
          <p:blipFill>
            <a:blip r:embed="rId4"/>
            <a:stretch/>
          </p:blipFill>
          <p:spPr>
            <a:xfrm>
              <a:off x="6772320" y="3365640"/>
              <a:ext cx="981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781680" y="3375000"/>
              <a:ext cx="9572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reveal_24"/>
          <p:cNvGrpSpPr/>
          <p:nvPr/>
        </p:nvGrpSpPr>
        <p:grpSpPr>
          <a:xfrm>
            <a:off x="6772320" y="4224240"/>
            <a:ext cx="969840" cy="609840"/>
            <a:chOff x="6772320" y="4224240"/>
            <a:chExt cx="969840" cy="609840"/>
          </a:xfrm>
        </p:grpSpPr>
        <p:pic>
          <p:nvPicPr>
            <p:cNvPr id="714" name="reveal_24" descr=""/>
            <p:cNvPicPr/>
            <p:nvPr/>
          </p:nvPicPr>
          <p:blipFill>
            <a:blip r:embed="rId5"/>
            <a:stretch/>
          </p:blipFill>
          <p:spPr>
            <a:xfrm>
              <a:off x="6772320" y="4224240"/>
              <a:ext cx="96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781680" y="4233960"/>
              <a:ext cx="9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reveal_13"/>
          <p:cNvGrpSpPr/>
          <p:nvPr/>
        </p:nvGrpSpPr>
        <p:grpSpPr>
          <a:xfrm>
            <a:off x="6748560" y="5072040"/>
            <a:ext cx="1004760" cy="811080"/>
            <a:chOff x="6748560" y="5072040"/>
            <a:chExt cx="1004760" cy="811080"/>
          </a:xfrm>
        </p:grpSpPr>
        <p:pic>
          <p:nvPicPr>
            <p:cNvPr id="717" name="reveal_13" descr=""/>
            <p:cNvPicPr/>
            <p:nvPr/>
          </p:nvPicPr>
          <p:blipFill>
            <a:blip r:embed="rId6"/>
            <a:stretch/>
          </p:blipFill>
          <p:spPr>
            <a:xfrm>
              <a:off x="6748560" y="5072040"/>
              <a:ext cx="10047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6759720" y="5083200"/>
              <a:ext cx="9792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reveal_6"/>
          <p:cNvGrpSpPr/>
          <p:nvPr/>
        </p:nvGrpSpPr>
        <p:grpSpPr>
          <a:xfrm>
            <a:off x="5370480" y="5357880"/>
            <a:ext cx="689040" cy="646200"/>
            <a:chOff x="5370480" y="5357880"/>
            <a:chExt cx="689040" cy="646200"/>
          </a:xfrm>
        </p:grpSpPr>
        <p:pic>
          <p:nvPicPr>
            <p:cNvPr id="720" name="reveal_6" descr=""/>
            <p:cNvPicPr/>
            <p:nvPr/>
          </p:nvPicPr>
          <p:blipFill>
            <a:blip r:embed="rId7"/>
            <a:stretch/>
          </p:blipFill>
          <p:spPr>
            <a:xfrm>
              <a:off x="5370480" y="5357880"/>
              <a:ext cx="689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5376960" y="5367240"/>
              <a:ext cx="6760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reveal_12"/>
          <p:cNvGrpSpPr/>
          <p:nvPr/>
        </p:nvGrpSpPr>
        <p:grpSpPr>
          <a:xfrm>
            <a:off x="4943520" y="4175280"/>
            <a:ext cx="914400" cy="525240"/>
            <a:chOff x="4943520" y="4175280"/>
            <a:chExt cx="914400" cy="525240"/>
          </a:xfrm>
        </p:grpSpPr>
        <p:pic>
          <p:nvPicPr>
            <p:cNvPr id="723" name="reveal_12" descr=""/>
            <p:cNvPicPr/>
            <p:nvPr/>
          </p:nvPicPr>
          <p:blipFill>
            <a:blip r:embed="rId8"/>
            <a:stretch/>
          </p:blipFill>
          <p:spPr>
            <a:xfrm>
              <a:off x="4943520" y="4175280"/>
              <a:ext cx="9144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952880" y="4186080"/>
              <a:ext cx="8924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reveal_21"/>
          <p:cNvGrpSpPr/>
          <p:nvPr/>
        </p:nvGrpSpPr>
        <p:grpSpPr>
          <a:xfrm>
            <a:off x="4943520" y="2475000"/>
            <a:ext cx="903240" cy="542880"/>
            <a:chOff x="4943520" y="2475000"/>
            <a:chExt cx="903240" cy="542880"/>
          </a:xfrm>
        </p:grpSpPr>
        <p:pic>
          <p:nvPicPr>
            <p:cNvPr id="726" name="reveal_21" descr=""/>
            <p:cNvPicPr/>
            <p:nvPr/>
          </p:nvPicPr>
          <p:blipFill>
            <a:blip r:embed="rId9"/>
            <a:stretch/>
          </p:blipFill>
          <p:spPr>
            <a:xfrm>
              <a:off x="4943520" y="2475000"/>
              <a:ext cx="9032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4952880" y="2487600"/>
              <a:ext cx="881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reveal_17"/>
          <p:cNvGrpSpPr/>
          <p:nvPr/>
        </p:nvGrpSpPr>
        <p:grpSpPr>
          <a:xfrm>
            <a:off x="4986360" y="1779480"/>
            <a:ext cx="841320" cy="457200"/>
            <a:chOff x="4986360" y="1779480"/>
            <a:chExt cx="841320" cy="457200"/>
          </a:xfrm>
        </p:grpSpPr>
        <p:pic>
          <p:nvPicPr>
            <p:cNvPr id="729" name="reveal_17" descr=""/>
            <p:cNvPicPr/>
            <p:nvPr/>
          </p:nvPicPr>
          <p:blipFill>
            <a:blip r:embed="rId10"/>
            <a:stretch/>
          </p:blipFill>
          <p:spPr>
            <a:xfrm>
              <a:off x="4986360" y="1779480"/>
              <a:ext cx="841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5000760" y="1790640"/>
              <a:ext cx="814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veal_9"/>
          <p:cNvSpPr/>
          <p:nvPr/>
        </p:nvSpPr>
        <p:spPr>
          <a:xfrm>
            <a:off x="5176800" y="995400"/>
            <a:ext cx="490680" cy="43812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4b3e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veal_25"/>
          <p:cNvSpPr/>
          <p:nvPr/>
        </p:nvSpPr>
        <p:spPr>
          <a:xfrm>
            <a:off x="7167600" y="676440"/>
            <a:ext cx="1066680" cy="1066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reveal_19"/>
          <p:cNvGrpSpPr/>
          <p:nvPr/>
        </p:nvGrpSpPr>
        <p:grpSpPr>
          <a:xfrm>
            <a:off x="3041640" y="2432160"/>
            <a:ext cx="987480" cy="635040"/>
            <a:chOff x="3041640" y="2432160"/>
            <a:chExt cx="987480" cy="635040"/>
          </a:xfrm>
        </p:grpSpPr>
        <p:pic>
          <p:nvPicPr>
            <p:cNvPr id="734" name="reveal_19" descr=""/>
            <p:cNvPicPr/>
            <p:nvPr/>
          </p:nvPicPr>
          <p:blipFill>
            <a:blip r:embed="rId13"/>
            <a:stretch/>
          </p:blipFill>
          <p:spPr>
            <a:xfrm>
              <a:off x="3041640" y="2432160"/>
              <a:ext cx="9874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054240" y="2444760"/>
              <a:ext cx="96516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reveal_8"/>
          <p:cNvGrpSpPr/>
          <p:nvPr/>
        </p:nvGrpSpPr>
        <p:grpSpPr>
          <a:xfrm>
            <a:off x="3041640" y="3273480"/>
            <a:ext cx="981000" cy="646200"/>
            <a:chOff x="3041640" y="3273480"/>
            <a:chExt cx="981000" cy="646200"/>
          </a:xfrm>
        </p:grpSpPr>
        <p:pic>
          <p:nvPicPr>
            <p:cNvPr id="737" name="reveal_8" descr=""/>
            <p:cNvPicPr/>
            <p:nvPr/>
          </p:nvPicPr>
          <p:blipFill>
            <a:blip r:embed="rId14"/>
            <a:stretch/>
          </p:blipFill>
          <p:spPr>
            <a:xfrm>
              <a:off x="3041640" y="3273480"/>
              <a:ext cx="981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054240" y="3282840"/>
              <a:ext cx="9590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reveal_7"/>
          <p:cNvGrpSpPr/>
          <p:nvPr/>
        </p:nvGrpSpPr>
        <p:grpSpPr>
          <a:xfrm>
            <a:off x="3017880" y="4121280"/>
            <a:ext cx="1011240" cy="626760"/>
            <a:chOff x="3017880" y="4121280"/>
            <a:chExt cx="1011240" cy="626760"/>
          </a:xfrm>
        </p:grpSpPr>
        <p:pic>
          <p:nvPicPr>
            <p:cNvPr id="740" name="reveal_7" descr=""/>
            <p:cNvPicPr/>
            <p:nvPr/>
          </p:nvPicPr>
          <p:blipFill>
            <a:blip r:embed="rId15"/>
            <a:stretch/>
          </p:blipFill>
          <p:spPr>
            <a:xfrm>
              <a:off x="3017880" y="4121280"/>
              <a:ext cx="101124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029040" y="4133880"/>
              <a:ext cx="990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reveal_16"/>
          <p:cNvGrpSpPr/>
          <p:nvPr/>
        </p:nvGrpSpPr>
        <p:grpSpPr>
          <a:xfrm>
            <a:off x="3048120" y="4992840"/>
            <a:ext cx="987480" cy="822240"/>
            <a:chOff x="3048120" y="4992840"/>
            <a:chExt cx="987480" cy="822240"/>
          </a:xfrm>
        </p:grpSpPr>
        <p:pic>
          <p:nvPicPr>
            <p:cNvPr id="743" name="reveal_16" descr=""/>
            <p:cNvPicPr/>
            <p:nvPr/>
          </p:nvPicPr>
          <p:blipFill>
            <a:blip r:embed="rId16"/>
            <a:stretch/>
          </p:blipFill>
          <p:spPr>
            <a:xfrm>
              <a:off x="3048120" y="4992840"/>
              <a:ext cx="9874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059280" y="5003640"/>
              <a:ext cx="966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veal_10"/>
          <p:cNvSpPr/>
          <p:nvPr/>
        </p:nvSpPr>
        <p:spPr>
          <a:xfrm>
            <a:off x="1647720" y="5319720"/>
            <a:ext cx="671760" cy="66204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reveal_1"/>
          <p:cNvGrpSpPr/>
          <p:nvPr/>
        </p:nvGrpSpPr>
        <p:grpSpPr>
          <a:xfrm>
            <a:off x="1158840" y="4170240"/>
            <a:ext cx="951120" cy="609840"/>
            <a:chOff x="1158840" y="4170240"/>
            <a:chExt cx="951120" cy="609840"/>
          </a:xfrm>
        </p:grpSpPr>
        <p:pic>
          <p:nvPicPr>
            <p:cNvPr id="747" name="reveal_1" descr=""/>
            <p:cNvPicPr/>
            <p:nvPr/>
          </p:nvPicPr>
          <p:blipFill>
            <a:blip r:embed="rId18"/>
            <a:stretch/>
          </p:blipFill>
          <p:spPr>
            <a:xfrm>
              <a:off x="1158840" y="4170240"/>
              <a:ext cx="95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1171440" y="4179960"/>
              <a:ext cx="925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reveal_23"/>
          <p:cNvGrpSpPr/>
          <p:nvPr/>
        </p:nvGrpSpPr>
        <p:grpSpPr>
          <a:xfrm>
            <a:off x="1127160" y="3340080"/>
            <a:ext cx="993600" cy="628560"/>
            <a:chOff x="1127160" y="3340080"/>
            <a:chExt cx="993600" cy="628560"/>
          </a:xfrm>
        </p:grpSpPr>
        <p:pic>
          <p:nvPicPr>
            <p:cNvPr id="750" name="reveal_23" descr=""/>
            <p:cNvPicPr/>
            <p:nvPr/>
          </p:nvPicPr>
          <p:blipFill>
            <a:blip r:embed="rId19"/>
            <a:stretch/>
          </p:blipFill>
          <p:spPr>
            <a:xfrm>
              <a:off x="1127160" y="3340080"/>
              <a:ext cx="9936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1138320" y="3352680"/>
              <a:ext cx="971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reveal_4"/>
          <p:cNvGrpSpPr/>
          <p:nvPr/>
        </p:nvGrpSpPr>
        <p:grpSpPr>
          <a:xfrm>
            <a:off x="1109520" y="2438280"/>
            <a:ext cx="1011240" cy="628920"/>
            <a:chOff x="1109520" y="2438280"/>
            <a:chExt cx="1011240" cy="628920"/>
          </a:xfrm>
        </p:grpSpPr>
        <p:pic>
          <p:nvPicPr>
            <p:cNvPr id="753" name="reveal_4" descr=""/>
            <p:cNvPicPr/>
            <p:nvPr/>
          </p:nvPicPr>
          <p:blipFill>
            <a:blip r:embed="rId20"/>
            <a:stretch/>
          </p:blipFill>
          <p:spPr>
            <a:xfrm>
              <a:off x="1109520" y="2438280"/>
              <a:ext cx="10112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23920" y="2448000"/>
              <a:ext cx="986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reveal_3"/>
          <p:cNvGrpSpPr/>
          <p:nvPr/>
        </p:nvGrpSpPr>
        <p:grpSpPr>
          <a:xfrm>
            <a:off x="2230560" y="334800"/>
            <a:ext cx="549000" cy="549360"/>
            <a:chOff x="2230560" y="334800"/>
            <a:chExt cx="549000" cy="549360"/>
          </a:xfrm>
        </p:grpSpPr>
        <p:pic>
          <p:nvPicPr>
            <p:cNvPr id="756" name="reveal_3" descr=""/>
            <p:cNvPicPr/>
            <p:nvPr/>
          </p:nvPicPr>
          <p:blipFill>
            <a:blip r:embed="rId21"/>
            <a:stretch/>
          </p:blipFill>
          <p:spPr>
            <a:xfrm>
              <a:off x="2230560" y="334800"/>
              <a:ext cx="549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2316240" y="420840"/>
              <a:ext cx="377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reveal_11"/>
          <p:cNvGrpSpPr/>
          <p:nvPr/>
        </p:nvGrpSpPr>
        <p:grpSpPr>
          <a:xfrm>
            <a:off x="4035600" y="-176040"/>
            <a:ext cx="774360" cy="772920"/>
            <a:chOff x="4035600" y="-176040"/>
            <a:chExt cx="774360" cy="772920"/>
          </a:xfrm>
        </p:grpSpPr>
        <p:pic>
          <p:nvPicPr>
            <p:cNvPr id="759" name="reveal_11" descr=""/>
            <p:cNvPicPr/>
            <p:nvPr/>
          </p:nvPicPr>
          <p:blipFill>
            <a:blip r:embed="rId22"/>
            <a:stretch/>
          </p:blipFill>
          <p:spPr>
            <a:xfrm>
              <a:off x="4035600" y="-176040"/>
              <a:ext cx="77436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4149720" y="-6048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veal_15"/>
          <p:cNvSpPr/>
          <p:nvPr/>
        </p:nvSpPr>
        <p:spPr>
          <a:xfrm>
            <a:off x="-1481040" y="5695920"/>
            <a:ext cx="2962080" cy="11620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veal_20"/>
          <p:cNvSpPr/>
          <p:nvPr/>
        </p:nvSpPr>
        <p:spPr>
          <a:xfrm>
            <a:off x="7996320" y="5619600"/>
            <a:ext cx="2590560" cy="1238400"/>
          </a:xfrm>
          <a:prstGeom prst="rect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veal_18"/>
          <p:cNvSpPr/>
          <p:nvPr/>
        </p:nvSpPr>
        <p:spPr>
          <a:xfrm>
            <a:off x="2747880" y="-1262160"/>
            <a:ext cx="819360" cy="100008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veal_5"/>
          <p:cNvSpPr/>
          <p:nvPr/>
        </p:nvSpPr>
        <p:spPr>
          <a:xfrm>
            <a:off x="6292800" y="-961920"/>
            <a:ext cx="981000" cy="1314360"/>
          </a:xfrm>
          <a:prstGeom prst="rect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reveal_22xtra"/>
          <p:cNvGrpSpPr/>
          <p:nvPr/>
        </p:nvGrpSpPr>
        <p:grpSpPr>
          <a:xfrm>
            <a:off x="1359000" y="1122480"/>
            <a:ext cx="450720" cy="272880"/>
            <a:chOff x="1359000" y="1122480"/>
            <a:chExt cx="450720" cy="272880"/>
          </a:xfrm>
        </p:grpSpPr>
        <p:pic>
          <p:nvPicPr>
            <p:cNvPr id="766" name="reveal_22xtra" descr=""/>
            <p:cNvPicPr/>
            <p:nvPr/>
          </p:nvPicPr>
          <p:blipFill>
            <a:blip r:embed="rId27"/>
            <a:stretch/>
          </p:blipFill>
          <p:spPr>
            <a:xfrm>
              <a:off x="1359000" y="1122480"/>
              <a:ext cx="4507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1371600" y="1131840"/>
              <a:ext cx="4237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button"/>
          <p:cNvSpPr/>
          <p:nvPr/>
        </p:nvSpPr>
        <p:spPr>
          <a:xfrm>
            <a:off x="1425600" y="430524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button"/>
          <p:cNvSpPr/>
          <p:nvPr/>
        </p:nvSpPr>
        <p:spPr>
          <a:xfrm>
            <a:off x="5224320" y="341316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button"/>
          <p:cNvSpPr/>
          <p:nvPr/>
        </p:nvSpPr>
        <p:spPr>
          <a:xfrm>
            <a:off x="2297160" y="369720"/>
            <a:ext cx="457200" cy="457200"/>
          </a:xfrm>
          <a:prstGeom prst="ellipse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button"/>
          <p:cNvSpPr/>
          <p:nvPr/>
        </p:nvSpPr>
        <p:spPr>
          <a:xfrm>
            <a:off x="1425600" y="257508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button"/>
          <p:cNvSpPr/>
          <p:nvPr/>
        </p:nvSpPr>
        <p:spPr>
          <a:xfrm>
            <a:off x="6586560" y="2073240"/>
            <a:ext cx="4125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button"/>
          <p:cNvSpPr/>
          <p:nvPr/>
        </p:nvSpPr>
        <p:spPr>
          <a:xfrm>
            <a:off x="5443560" y="5600880"/>
            <a:ext cx="4125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button"/>
          <p:cNvSpPr/>
          <p:nvPr/>
        </p:nvSpPr>
        <p:spPr>
          <a:xfrm>
            <a:off x="3341520" y="428292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button"/>
          <p:cNvSpPr/>
          <p:nvPr/>
        </p:nvSpPr>
        <p:spPr>
          <a:xfrm>
            <a:off x="3341520" y="342432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button"/>
          <p:cNvSpPr/>
          <p:nvPr/>
        </p:nvSpPr>
        <p:spPr>
          <a:xfrm>
            <a:off x="5224320" y="103968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button"/>
          <p:cNvSpPr/>
          <p:nvPr/>
        </p:nvSpPr>
        <p:spPr>
          <a:xfrm>
            <a:off x="1698480" y="5589720"/>
            <a:ext cx="41292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button"/>
          <p:cNvSpPr/>
          <p:nvPr/>
        </p:nvSpPr>
        <p:spPr>
          <a:xfrm>
            <a:off x="4157640" y="0"/>
            <a:ext cx="566640" cy="566640"/>
          </a:xfrm>
          <a:prstGeom prst="ellipse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button"/>
          <p:cNvSpPr/>
          <p:nvPr/>
        </p:nvSpPr>
        <p:spPr>
          <a:xfrm>
            <a:off x="5224320" y="425124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button"/>
          <p:cNvSpPr/>
          <p:nvPr/>
        </p:nvSpPr>
        <p:spPr>
          <a:xfrm>
            <a:off x="7032600" y="5273640"/>
            <a:ext cx="41292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button"/>
          <p:cNvSpPr/>
          <p:nvPr/>
        </p:nvSpPr>
        <p:spPr>
          <a:xfrm>
            <a:off x="7032600" y="3510000"/>
            <a:ext cx="41292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button"/>
          <p:cNvSpPr/>
          <p:nvPr/>
        </p:nvSpPr>
        <p:spPr>
          <a:xfrm>
            <a:off x="1077840" y="6188040"/>
            <a:ext cx="41292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button"/>
          <p:cNvSpPr/>
          <p:nvPr/>
        </p:nvSpPr>
        <p:spPr>
          <a:xfrm>
            <a:off x="3341520" y="525312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button"/>
          <p:cNvSpPr/>
          <p:nvPr/>
        </p:nvSpPr>
        <p:spPr>
          <a:xfrm>
            <a:off x="5224320" y="183348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button"/>
          <p:cNvSpPr/>
          <p:nvPr/>
        </p:nvSpPr>
        <p:spPr>
          <a:xfrm>
            <a:off x="3809880" y="118116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button"/>
          <p:cNvSpPr/>
          <p:nvPr/>
        </p:nvSpPr>
        <p:spPr>
          <a:xfrm>
            <a:off x="3341520" y="258588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button"/>
          <p:cNvSpPr/>
          <p:nvPr/>
        </p:nvSpPr>
        <p:spPr>
          <a:xfrm>
            <a:off x="5224320" y="257508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button"/>
          <p:cNvSpPr/>
          <p:nvPr/>
        </p:nvSpPr>
        <p:spPr>
          <a:xfrm>
            <a:off x="1425600" y="1779480"/>
            <a:ext cx="41436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button"/>
          <p:cNvSpPr/>
          <p:nvPr/>
        </p:nvSpPr>
        <p:spPr>
          <a:xfrm>
            <a:off x="8012160" y="6167520"/>
            <a:ext cx="4125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button"/>
          <p:cNvSpPr/>
          <p:nvPr/>
        </p:nvSpPr>
        <p:spPr>
          <a:xfrm>
            <a:off x="1425600" y="3478320"/>
            <a:ext cx="414360" cy="34272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button"/>
          <p:cNvSpPr/>
          <p:nvPr/>
        </p:nvSpPr>
        <p:spPr>
          <a:xfrm>
            <a:off x="7032600" y="4359240"/>
            <a:ext cx="412920" cy="343080"/>
          </a:xfrm>
          <a:prstGeom prst="rect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button"/>
          <p:cNvSpPr/>
          <p:nvPr/>
        </p:nvSpPr>
        <p:spPr>
          <a:xfrm>
            <a:off x="7326360" y="871560"/>
            <a:ext cx="708120" cy="706320"/>
          </a:xfrm>
          <a:prstGeom prst="ellipse">
            <a:avLst/>
          </a:prstGeom>
          <a:gradFill rotWithShape="0">
            <a:gsLst>
              <a:gs pos="0">
                <a:srgbClr val="a5ddf3"/>
              </a:gs>
              <a:gs pos="100000">
                <a:srgbClr val="e6f6fc"/>
              </a:gs>
            </a:gsLst>
            <a:lin ang="16200000"/>
          </a:gradFill>
          <a:ln w="9360">
            <a:solidFill>
              <a:srgbClr val="348f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6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157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95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4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270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1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Рисунок 3" descr="0_53a0f_68a727dd_XL.jpeg"/>
          <p:cNvPicPr/>
          <p:nvPr/>
        </p:nvPicPr>
        <p:blipFill>
          <a:blip r:embed="rId2"/>
          <a:stretch/>
        </p:blipFill>
        <p:spPr>
          <a:xfrm>
            <a:off x="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Текст 15"/>
          <p:cNvSpPr/>
          <p:nvPr/>
        </p:nvSpPr>
        <p:spPr>
          <a:xfrm>
            <a:off x="4716360" y="4292640"/>
            <a:ext cx="4427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ля вас пода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МУЛЬТ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8"/>
          <p:cNvSpPr/>
          <p:nvPr/>
        </p:nvSpPr>
        <p:spPr>
          <a:xfrm>
            <a:off x="4643280" y="189000"/>
            <a:ext cx="43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Новым Го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жизни вы смелей шагайт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узей своих не забывайт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никогда не вешайте нос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удьте здоровы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д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1" name="7-конечная звезда 6"/>
          <p:cNvSpPr/>
          <p:nvPr/>
        </p:nvSpPr>
        <p:spPr>
          <a:xfrm>
            <a:off x="250920" y="404640"/>
            <a:ext cx="3673440" cy="26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Он приходит в зимний вечер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Зажигать на елке свечи.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Бородой седой оброс,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Кто же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7-конечная звезда 7"/>
          <p:cNvSpPr/>
          <p:nvPr/>
        </p:nvSpPr>
        <p:spPr>
          <a:xfrm>
            <a:off x="5076720" y="189000"/>
            <a:ext cx="3672000" cy="2663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Он и добрый, он и строгий,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Бородой до глаз зарос.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Красноносый, краснощекий,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Наш любимый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7-конечная звезда 8"/>
          <p:cNvSpPr/>
          <p:nvPr/>
        </p:nvSpPr>
        <p:spPr>
          <a:xfrm>
            <a:off x="250920" y="3429000"/>
            <a:ext cx="5184720" cy="28083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Кто ребят под Новый год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Веселить не устает?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Кто подарки дарит детям?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Кто ребятам всем на свете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Елку из лесу привез? 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Отгадайте!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Рисунок 9" descr="дед.jpeg"/>
          <p:cNvPicPr/>
          <p:nvPr/>
        </p:nvPicPr>
        <p:blipFill>
          <a:blip r:embed="rId5"/>
          <a:stretch/>
        </p:blipFill>
        <p:spPr>
          <a:xfrm>
            <a:off x="4932360" y="47628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7-конечная звезда 6"/>
          <p:cNvSpPr/>
          <p:nvPr/>
        </p:nvSpPr>
        <p:spPr>
          <a:xfrm>
            <a:off x="250920" y="404640"/>
            <a:ext cx="4033800" cy="26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Я - внучка Мороза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И Вьюги,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Являюсь сюда каждый год!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Со мною снежинки-подруги</a:t>
            </a:r>
            <a:br>
              <a:rPr sz="1600"/>
            </a:br>
            <a:r>
              <a:rPr b="0" lang="en-US" sz="1600" spc="-1" strike="noStrike">
                <a:solidFill>
                  <a:srgbClr val="222268"/>
                </a:solidFill>
                <a:latin typeface="Garamond"/>
              </a:rPr>
              <a:t>Весёлый ведут хо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7-конечная звезда 7"/>
          <p:cNvSpPr/>
          <p:nvPr/>
        </p:nvSpPr>
        <p:spPr>
          <a:xfrm>
            <a:off x="5219640" y="3645000"/>
            <a:ext cx="3673440" cy="2663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Garamond"/>
              </a:rPr>
              <a:t>Она в серебро</a:t>
            </a:r>
            <a:br>
              <a:rPr sz="1800"/>
            </a:br>
            <a:r>
              <a:rPr b="0" lang="en-US" sz="1800" spc="-1" strike="noStrike">
                <a:solidFill>
                  <a:srgbClr val="222268"/>
                </a:solidFill>
                <a:latin typeface="Garamond"/>
              </a:rPr>
              <a:t>С жемчугами одета -</a:t>
            </a:r>
            <a:br>
              <a:rPr sz="1800"/>
            </a:br>
            <a:r>
              <a:rPr b="0" lang="en-US" sz="1800" spc="-1" strike="noStrike">
                <a:solidFill>
                  <a:srgbClr val="222268"/>
                </a:solidFill>
                <a:latin typeface="Garamond"/>
              </a:rPr>
              <a:t>Волшебная внучка</a:t>
            </a:r>
            <a:br>
              <a:rPr sz="1800"/>
            </a:br>
            <a:r>
              <a:rPr b="0" lang="en-US" sz="1800" spc="-1" strike="noStrike">
                <a:solidFill>
                  <a:srgbClr val="222268"/>
                </a:solidFill>
                <a:latin typeface="Garamond"/>
              </a:rPr>
              <a:t>Волшебного д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Рисунок 9" descr="сн.jpeg"/>
          <p:cNvPicPr/>
          <p:nvPr/>
        </p:nvPicPr>
        <p:blipFill>
          <a:blip r:embed="rId4"/>
          <a:stretch/>
        </p:blipFill>
        <p:spPr>
          <a:xfrm>
            <a:off x="179280" y="189000"/>
            <a:ext cx="4565880" cy="646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Содержимое 16" descr="сканирование0003.jpg"/>
          <p:cNvPicPr/>
          <p:nvPr/>
        </p:nvPicPr>
        <p:blipFill>
          <a:blip r:embed="rId2"/>
          <a:stretch/>
        </p:blipFill>
        <p:spPr>
          <a:xfrm>
            <a:off x="0" y="189000"/>
            <a:ext cx="5446800" cy="6335640"/>
          </a:xfrm>
          <a:prstGeom prst="rect">
            <a:avLst/>
          </a:prstGeom>
          <a:ln w="0">
            <a:noFill/>
          </a:ln>
        </p:spPr>
      </p:pic>
      <p:pic>
        <p:nvPicPr>
          <p:cNvPr id="669" name="Прямоугольник 18" descr=""/>
          <p:cNvPicPr/>
          <p:nvPr/>
        </p:nvPicPr>
        <p:blipFill>
          <a:blip r:embed="rId3"/>
          <a:stretch/>
        </p:blipFill>
        <p:spPr>
          <a:xfrm>
            <a:off x="5370480" y="2341440"/>
            <a:ext cx="3664080" cy="1273320"/>
          </a:xfrm>
          <a:prstGeom prst="rect">
            <a:avLst/>
          </a:prstGeom>
          <a:ln w="0">
            <a:noFill/>
          </a:ln>
        </p:spPr>
      </p:pic>
      <p:pic>
        <p:nvPicPr>
          <p:cNvPr id="670" name="Прямоугольник 19" descr=""/>
          <p:cNvPicPr/>
          <p:nvPr/>
        </p:nvPicPr>
        <p:blipFill>
          <a:blip r:embed="rId4"/>
          <a:stretch/>
        </p:blipFill>
        <p:spPr>
          <a:xfrm>
            <a:off x="5583240" y="146160"/>
            <a:ext cx="3402000" cy="132228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5795640" y="3645000"/>
            <a:ext cx="3097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Желаем успехов в учёбе, любите учиться, слушайтесь маму и папу, не болейте, будьте воспитанными мальчишками и девчонками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Подзаголовок 5" descr=""/>
          <p:cNvPicPr/>
          <p:nvPr/>
        </p:nvPicPr>
        <p:blipFill>
          <a:blip r:embed="rId2"/>
          <a:stretch/>
        </p:blipFill>
        <p:spPr>
          <a:xfrm>
            <a:off x="244440" y="3968640"/>
            <a:ext cx="7716960" cy="2273400"/>
          </a:xfrm>
          <a:prstGeom prst="rect">
            <a:avLst/>
          </a:prstGeom>
          <a:ln w="0">
            <a:noFill/>
          </a:ln>
        </p:spPr>
      </p:pic>
      <p:pic>
        <p:nvPicPr>
          <p:cNvPr id="673" name="Прямоугольник 3" descr=""/>
          <p:cNvPicPr/>
          <p:nvPr/>
        </p:nvPicPr>
        <p:blipFill>
          <a:blip r:embed="rId3"/>
          <a:stretch/>
        </p:blipFill>
        <p:spPr>
          <a:xfrm>
            <a:off x="554040" y="360360"/>
            <a:ext cx="534024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59280" y="189000"/>
            <a:ext cx="3673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Ежишек</a:t>
            </a:r>
            <a:br>
              <a:rPr sz="60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чешски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омощни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32000" y="2852280"/>
            <a:ext cx="3933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Garamond"/>
              </a:rPr>
              <a:t>Особые приметы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Складывает под ёлку пода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вонит в колокольчи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Тщательно скрывает свою внешност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6" name="Содержимое 5" descr="сканирование0002.jpg"/>
          <p:cNvPicPr/>
          <p:nvPr/>
        </p:nvPicPr>
        <p:blipFill>
          <a:blip r:embed="rId2"/>
          <a:stretch/>
        </p:blipFill>
        <p:spPr>
          <a:xfrm>
            <a:off x="179280" y="189000"/>
            <a:ext cx="4500720" cy="6334200"/>
          </a:xfrm>
          <a:prstGeom prst="rect">
            <a:avLst/>
          </a:prstGeom>
          <a:ln w="0">
            <a:noFill/>
          </a:ln>
        </p:spPr>
      </p:pic>
      <p:pic>
        <p:nvPicPr>
          <p:cNvPr id="677" name="Прямоугольник 6" descr=""/>
          <p:cNvPicPr/>
          <p:nvPr/>
        </p:nvPicPr>
        <p:blipFill>
          <a:blip r:embed="rId3"/>
          <a:stretch/>
        </p:blipFill>
        <p:spPr>
          <a:xfrm>
            <a:off x="4937040" y="5297400"/>
            <a:ext cx="3944880" cy="126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03640" y="189000"/>
            <a:ext cx="3672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Пер Ноэль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француз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руг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9" name="Содержимое 6" descr="сканирование0004.jpg"/>
          <p:cNvPicPr/>
          <p:nvPr/>
        </p:nvPicPr>
        <p:blipFill>
          <a:blip r:embed="rId2"/>
          <a:stretch/>
        </p:blipFill>
        <p:spPr>
          <a:xfrm>
            <a:off x="88920" y="189000"/>
            <a:ext cx="4781520" cy="634824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8" descr=""/>
          <p:cNvPicPr/>
          <p:nvPr/>
        </p:nvPicPr>
        <p:blipFill>
          <a:blip r:embed="rId3"/>
          <a:stretch/>
        </p:blipFill>
        <p:spPr>
          <a:xfrm>
            <a:off x="5151600" y="3060720"/>
            <a:ext cx="3730320" cy="27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Йоулупукки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фин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руг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2" name="Содержимое 5" descr="сканирование0005.jpg"/>
          <p:cNvPicPr/>
          <p:nvPr/>
        </p:nvPicPr>
        <p:blipFill>
          <a:blip r:embed="rId2"/>
          <a:stretch/>
        </p:blipFill>
        <p:spPr>
          <a:xfrm>
            <a:off x="179280" y="260280"/>
            <a:ext cx="4702320" cy="6407280"/>
          </a:xfrm>
          <a:prstGeom prst="rect">
            <a:avLst/>
          </a:prstGeom>
          <a:ln w="0">
            <a:noFill/>
          </a:ln>
        </p:spPr>
      </p:pic>
      <p:pic>
        <p:nvPicPr>
          <p:cNvPr id="683" name="Прямоугольник 7" descr=""/>
          <p:cNvPicPr/>
          <p:nvPr/>
        </p:nvPicPr>
        <p:blipFill>
          <a:blip r:embed="rId3"/>
          <a:stretch/>
        </p:blipFill>
        <p:spPr>
          <a:xfrm>
            <a:off x="5029200" y="3786120"/>
            <a:ext cx="3986280" cy="188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Эхээ Дьыл</a:t>
            </a:r>
            <a:br>
              <a:rPr sz="5400"/>
            </a:b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якут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еда Мороз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5" name="Содержимое 6" descr="сканирование0006.jpg"/>
          <p:cNvPicPr/>
          <p:nvPr/>
        </p:nvPicPr>
        <p:blipFill>
          <a:blip r:embed="rId2"/>
          <a:stretch/>
        </p:blipFill>
        <p:spPr>
          <a:xfrm>
            <a:off x="179280" y="141120"/>
            <a:ext cx="4824360" cy="643572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209920" y="3141720"/>
            <a:ext cx="3754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Garamond"/>
              </a:rPr>
              <a:t>Особые приметы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У него есть огромный бык, который каждую осень выходит из океана и начинает отращивать рога. Чем длиннее рог – тем крепче мороз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7:54:37Z</dcterms:created>
  <dc:creator>Home</dc:creator>
  <dc:description/>
  <dc:language>en-US</dc:language>
  <cp:lastModifiedBy>Борис</cp:lastModifiedBy>
  <dcterms:modified xsi:type="dcterms:W3CDTF">2014-01-13T16:32:03Z</dcterms:modified>
  <cp:revision>21</cp:revision>
  <dc:subject/>
  <dc:title>Слайд 1</dc:title>
</cp:coreProperties>
</file>